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5AB-1441-49C9-B256-437CEB1E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2DD-90C7-4279-93B0-EAC721A9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884-8826-40EA-82FA-BBFFE225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513-3E27-4350-A5DA-2916ECBD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CB8-FDEF-40A4-A61D-63AFCE6D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164-BB5E-4072-B697-822F04D5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BA2-73DB-459D-BC2C-A74CF79C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D3D-0610-4994-99CB-9AC17054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3F1-CD05-450A-AD18-B25FE5B8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264-122A-41B3-9B7F-7C354C6C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033-4605-4698-8E32-CE365CBC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4DD-579D-4CFD-99D9-B8EEE848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D5A6-4244-4A0E-9115-972B698D4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504d"/>
            </a:gs>
            <a:gs pos="100000">
              <a:srgbClr val="d7b93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6b2</cp:lastModifiedBy>
  <dcterms:modified xsi:type="dcterms:W3CDTF">2012-06-18T11:11:49Z</dcterms:modified>
  <cp:revision>30</cp:revision>
  <dc:subject/>
  <dc:title>SALARIUL</dc:title>
</cp:coreProperties>
</file>